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98505"/>
        <c:axId val="72578632"/>
      </c:barChart>
      <c:catAx>
        <c:axId val="528985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78632"/>
        <c:crosses val="autoZero"/>
        <c:auto val="1"/>
        <c:lblAlgn val="ctr"/>
        <c:lblOffset val="100"/>
        <c:noMultiLvlLbl val="0"/>
      </c:catAx>
      <c:valAx>
        <c:axId val="725786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985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4190-A80F-4FCC-9B24-BC886C67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17A-5B3C-4A8F-B09D-1C24DCE1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A53-B3CE-45A2-82C8-A26F6DCD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101-CBC6-4758-B772-32BE0B2C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E572-6491-4A9A-9909-32FF33C6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1954-8EAA-4F15-A5C2-C01B14E0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80E-6390-48F8-A3C4-BAF3276E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7222-4039-449E-8018-D4DEF91E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91A-E662-4A64-93E7-3A995E0B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758-9EFC-4EE0-A74B-8046281A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B3C-86DB-4AD4-8F71-DA67A035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4D8-1B0C-4734-BF5E-C0E55789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D94CD-A6F4-4D00-BE49-32C7A5B127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