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08984"/>
        <c:axId val="14211670"/>
      </c:barChart>
      <c:catAx>
        <c:axId val="873089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11670"/>
        <c:crosses val="autoZero"/>
        <c:auto val="1"/>
        <c:lblAlgn val="ctr"/>
        <c:lblOffset val="100"/>
        <c:noMultiLvlLbl val="0"/>
      </c:catAx>
      <c:valAx>
        <c:axId val="142116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089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AE83-FD70-46C8-900A-ABFAC0499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EF79-63F6-42A9-832F-96B605838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01AA-2222-44E4-A266-B62926541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2F02-CFD7-41D3-B7F3-7267FB86B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4808-61F7-4E6C-8D86-1B0800B3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92DF-1F96-4D2D-840C-0CDC4E142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1AA0-C781-4B8B-84EC-8E0478203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F7E0-48F5-4302-987C-9287AAA45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534-BDCC-48FA-B451-D0197E3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228-0BA9-4CFD-A2C0-7B241ABD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1A10-701C-4B31-B60E-81151477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93E3-4D95-4D2D-8696-E6556981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6590B0-03B0-4BDF-8288-BC9CB84302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